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8DB-CCAA-411A-922F-CD518F0F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9FE-58B2-4F98-8317-F027E4C1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657-AEAC-40E3-B9BD-59D66F85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74D-A4B8-4451-AEB0-65784DEB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31D-65D4-4F1D-B324-7FB9CBA1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CAF-4472-48FD-99B8-FF8BE08A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B63-4698-44F0-BB40-28C4F463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AAB-CEC8-4E4A-929E-1CA44F32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F50-9F7B-4275-BAD8-F26A03A9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D65-2F7E-4579-BF01-CE14AE58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320-FA5E-41A3-A1AD-84D875C2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82D-87FA-4415-BC17-F872DF2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2934-BA81-443D-9E98-3E413A8B6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plusplus.com/" TargetMode="External"/><Relationship Id="rId2" Type="http://schemas.openxmlformats.org/officeDocument/2006/relationships/hyperlink" Target="http://www.cppreference.com/" TargetMode="External"/><Relationship Id="rId3" Type="http://schemas.openxmlformats.org/officeDocument/2006/relationships/hyperlink" Target="http://www.cpp-home.com/" TargetMode="External"/><Relationship Id="rId4" Type="http://schemas.openxmlformats.org/officeDocument/2006/relationships/hyperlink" Target="http://www.cprogramming.com/" TargetMode="External"/><Relationship Id="rId5" Type="http://schemas.openxmlformats.org/officeDocument/2006/relationships/hyperlink" Target="http://www.research.att.com/~bs/C++.html" TargetMode="External"/><Relationship Id="rId6" Type="http://schemas.openxmlformats.org/officeDocument/2006/relationships/hyperlink" Target="http://www.msdn.microsoft.com/visualc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orial 3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: Introducing Variables, Input, Memory Concepts and Arithmetic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82880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ventory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Variabl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erforming Stream Input Us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i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erforming a Calculation and Displaying the Resul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Memory Concept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Arithmetic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the Debugger: Breakpoint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8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eb Resourc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9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erforming Stream Input Us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i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60520" y="3124080"/>
            <a:ext cx="6221520" cy="147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5440" y="1447920"/>
            <a:ext cx="47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 user for input and read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80880" y="2514600"/>
            <a:ext cx="3048120" cy="1295280"/>
            <a:chOff x="380880" y="2514600"/>
            <a:chExt cx="3048120" cy="1295280"/>
          </a:xfrm>
        </p:grpSpPr>
        <p:sp>
          <p:nvSpPr>
            <p:cNvPr id="76" name=""/>
            <p:cNvSpPr/>
            <p:nvPr/>
          </p:nvSpPr>
          <p:spPr>
            <a:xfrm>
              <a:off x="380880" y="251460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user for number of cart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14400" y="289548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0880" y="4038480"/>
            <a:ext cx="2971800" cy="1495080"/>
            <a:chOff x="380880" y="4038480"/>
            <a:chExt cx="2971800" cy="1495080"/>
          </a:xfrm>
        </p:grpSpPr>
        <p:sp>
          <p:nvSpPr>
            <p:cNvPr id="79" name=""/>
            <p:cNvSpPr/>
            <p:nvPr/>
          </p:nvSpPr>
          <p:spPr>
            <a:xfrm>
              <a:off x="380880" y="49528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ce value entered by user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rt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62120" y="403848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erforming Stream Input Us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i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60520" y="3052800"/>
            <a:ext cx="6221520" cy="161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17240" y="1461960"/>
            <a:ext cx="71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 user for input and store the value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2590920"/>
            <a:ext cx="2971800" cy="1295280"/>
            <a:chOff x="380880" y="2590920"/>
            <a:chExt cx="2971800" cy="1295280"/>
          </a:xfrm>
        </p:grpSpPr>
        <p:sp>
          <p:nvSpPr>
            <p:cNvPr id="85" name=""/>
            <p:cNvSpPr/>
            <p:nvPr/>
          </p:nvSpPr>
          <p:spPr>
            <a:xfrm>
              <a:off x="380880" y="25909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user for items per cart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1800" y="2971800"/>
              <a:ext cx="1460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80880" y="4114440"/>
            <a:ext cx="2971800" cy="1495080"/>
            <a:chOff x="380880" y="4114440"/>
            <a:chExt cx="2971800" cy="1495080"/>
          </a:xfrm>
        </p:grpSpPr>
        <p:sp>
          <p:nvSpPr>
            <p:cNvPr id="88" name=""/>
            <p:cNvSpPr/>
            <p:nvPr/>
          </p:nvSpPr>
          <p:spPr>
            <a:xfrm>
              <a:off x="380880" y="502884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ce value entered by user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tem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62120" y="4114440"/>
              <a:ext cx="16002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" dur="1" fill="hold"/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erforming a Calculation and Displaying the Resul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6120" y="2666880"/>
            <a:ext cx="6249960" cy="145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9320" y="1447920"/>
            <a:ext cx="57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ultiplica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tion opera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pera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85800" y="3581280"/>
            <a:ext cx="2743200" cy="1647720"/>
            <a:chOff x="685800" y="3581280"/>
            <a:chExt cx="2743200" cy="1647720"/>
          </a:xfrm>
        </p:grpSpPr>
        <p:sp>
          <p:nvSpPr>
            <p:cNvPr id="95" name=""/>
            <p:cNvSpPr/>
            <p:nvPr/>
          </p:nvSpPr>
          <p:spPr>
            <a:xfrm>
              <a:off x="685800" y="46483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ltiply the integer values and store the result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219320" y="3581280"/>
              <a:ext cx="11430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erforming a Calculation and Displaying the Resul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60520" y="2057400"/>
            <a:ext cx="6221520" cy="165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0040" y="1447920"/>
            <a:ext cx="32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477120" y="3048120"/>
            <a:ext cx="2133360" cy="1251720"/>
            <a:chOff x="6477120" y="3048120"/>
            <a:chExt cx="2133360" cy="1251720"/>
          </a:xfrm>
        </p:grpSpPr>
        <p:sp>
          <p:nvSpPr>
            <p:cNvPr id="101" name=""/>
            <p:cNvSpPr/>
            <p:nvPr/>
          </p:nvSpPr>
          <p:spPr>
            <a:xfrm>
              <a:off x="6934320" y="3962520"/>
              <a:ext cx="1676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6477120" y="3048120"/>
              <a:ext cx="761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85800" y="3962520"/>
            <a:ext cx="7769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 manipula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a new line and flushes the output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atenating stream insertion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ple stream insertion operators in a singl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erforming a Calculation and Displaying the Resul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" y="1447920"/>
            <a:ext cx="56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086600" y="7621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ventory.cpp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276720"/>
            <a:ext cx="2819160" cy="1952280"/>
            <a:chOff x="304920" y="3276720"/>
            <a:chExt cx="2819160" cy="1952280"/>
          </a:xfrm>
        </p:grpSpPr>
        <p:sp>
          <p:nvSpPr>
            <p:cNvPr id="111" name=""/>
            <p:cNvSpPr/>
            <p:nvPr/>
          </p:nvSpPr>
          <p:spPr>
            <a:xfrm>
              <a:off x="304920" y="464832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keyword to define variables inside a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04920" y="3276720"/>
              <a:ext cx="304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828800" y="4266720"/>
            <a:ext cx="6095880" cy="1176120"/>
            <a:chOff x="1828800" y="4266720"/>
            <a:chExt cx="6095880" cy="1176120"/>
          </a:xfrm>
        </p:grpSpPr>
        <p:sp>
          <p:nvSpPr>
            <p:cNvPr id="114" name=""/>
            <p:cNvSpPr/>
            <p:nvPr/>
          </p:nvSpPr>
          <p:spPr>
            <a:xfrm>
              <a:off x="5257800" y="5105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s user input to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828800" y="4266720"/>
              <a:ext cx="3733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8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685332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332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086600" y="7621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ventory.cpp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752120" y="914040"/>
            <a:ext cx="6096600" cy="871200"/>
            <a:chOff x="1752120" y="914040"/>
            <a:chExt cx="6096600" cy="871200"/>
          </a:xfrm>
        </p:grpSpPr>
        <p:sp>
          <p:nvSpPr>
            <p:cNvPr id="120" name=""/>
            <p:cNvSpPr/>
            <p:nvPr/>
          </p:nvSpPr>
          <p:spPr>
            <a:xfrm>
              <a:off x="5181480" y="14479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s user input to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1752120" y="914040"/>
              <a:ext cx="3429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743200" y="1599840"/>
            <a:ext cx="4952880" cy="947160"/>
            <a:chOff x="2743200" y="1599840"/>
            <a:chExt cx="4952880" cy="947160"/>
          </a:xfrm>
        </p:grpSpPr>
        <p:sp>
          <p:nvSpPr>
            <p:cNvPr id="123" name=""/>
            <p:cNvSpPr/>
            <p:nvPr/>
          </p:nvSpPr>
          <p:spPr>
            <a:xfrm>
              <a:off x="6019920" y="2209680"/>
              <a:ext cx="1676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e a 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743200" y="1599840"/>
              <a:ext cx="3276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2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Memory Concept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6" name=""/>
          <p:cNvSpPr/>
          <p:nvPr/>
        </p:nvSpPr>
        <p:spPr>
          <a:xfrm>
            <a:off x="3719520" y="3170160"/>
            <a:ext cx="1285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19520" y="3170160"/>
            <a:ext cx="1285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2920" y="1461960"/>
            <a:ext cx="725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location showing name and value of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rt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20800" y="3249720"/>
            <a:ext cx="390240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variable has a name, size, type an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Memory Concep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32" name=""/>
          <p:cNvSpPr/>
          <p:nvPr/>
        </p:nvSpPr>
        <p:spPr>
          <a:xfrm>
            <a:off x="414360" y="1461960"/>
            <a:ext cx="73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locations after assigning values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rt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16120" y="2992320"/>
            <a:ext cx="3911760" cy="1741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a memory location is destr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4097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Memory Concep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37" name=""/>
          <p:cNvSpPr/>
          <p:nvPr/>
        </p:nvSpPr>
        <p:spPr>
          <a:xfrm>
            <a:off x="412200" y="1447920"/>
            <a:ext cx="59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locations after a multiplication op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616120" y="2676600"/>
            <a:ext cx="3911760" cy="2373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a value from a memory location is nondestr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248520" y="4190760"/>
            <a:ext cx="1218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248520" y="3580920"/>
            <a:ext cx="12189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vari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your applications to accept input that the user types at the keyboar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rithmetic opera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store user input in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y basic memory concepts using vari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precedence rules of arithmetic opera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breakpoints to debug applica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rithmetic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580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4762440" y="2419200"/>
            <a:ext cx="457200" cy="371880"/>
            <a:chOff x="4762440" y="2419200"/>
            <a:chExt cx="457200" cy="371880"/>
          </a:xfrm>
        </p:grpSpPr>
        <p:sp>
          <p:nvSpPr>
            <p:cNvPr id="146" name=""/>
            <p:cNvSpPr/>
            <p:nvPr/>
          </p:nvSpPr>
          <p:spPr>
            <a:xfrm>
              <a:off x="4762440" y="24192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2440" y="2514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802040" y="262404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3581280"/>
            <a:ext cx="7769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ary operators allow programmers to specify positiv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negativ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s are positive by default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ame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division truncates (discards the remai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expressions must be written in straight-lin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rithmetic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371600"/>
          <a:ext cx="77691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ence is the order in which operators are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ndant parentheses make expressions easier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 errors (also called b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prevent code from compi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applications to produce erroneous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uses execution before executing a specified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breakpoint is placed on a non-executable line, execution is paused before the next executable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a breakpoint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ing inside the margin indicator bar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-clicking a line of code and selec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Break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398600" y="2795760"/>
            <a:ext cx="6345360" cy="2133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2200" y="1447920"/>
            <a:ext cx="51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lution Configu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800600" y="2133720"/>
            <a:ext cx="1752480" cy="1447560"/>
            <a:chOff x="4800600" y="2133720"/>
            <a:chExt cx="1752480" cy="1447560"/>
          </a:xfrm>
        </p:grpSpPr>
        <p:sp>
          <p:nvSpPr>
            <p:cNvPr id="161" name=""/>
            <p:cNvSpPr/>
            <p:nvPr/>
          </p:nvSpPr>
          <p:spPr>
            <a:xfrm>
              <a:off x="5334120" y="2133720"/>
              <a:ext cx="1218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wn arr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800600" y="2438280"/>
              <a:ext cx="533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143000" y="3733560"/>
            <a:ext cx="3124080" cy="1937880"/>
            <a:chOff x="1143000" y="3733560"/>
            <a:chExt cx="3124080" cy="1937880"/>
          </a:xfrm>
        </p:grpSpPr>
        <p:sp>
          <p:nvSpPr>
            <p:cNvPr id="164" name=""/>
            <p:cNvSpPr/>
            <p:nvPr/>
          </p:nvSpPr>
          <p:spPr>
            <a:xfrm>
              <a:off x="1143000" y="5334120"/>
              <a:ext cx="3124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olution Configur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mbo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819520" y="3733560"/>
              <a:ext cx="1066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84280" y="2362320"/>
            <a:ext cx="6174000" cy="178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2200" y="14479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two breakpo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676160" y="2971440"/>
            <a:ext cx="1905120" cy="1557000"/>
            <a:chOff x="1676160" y="2971440"/>
            <a:chExt cx="1905120" cy="1557000"/>
          </a:xfrm>
        </p:grpSpPr>
        <p:sp>
          <p:nvSpPr>
            <p:cNvPr id="170" name=""/>
            <p:cNvSpPr/>
            <p:nvPr/>
          </p:nvSpPr>
          <p:spPr>
            <a:xfrm>
              <a:off x="2362320" y="4191120"/>
              <a:ext cx="1218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eakpoi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676160" y="297144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1676160" y="34286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04920" y="1981080"/>
            <a:ext cx="1904760" cy="1600200"/>
            <a:chOff x="304920" y="1981080"/>
            <a:chExt cx="1904760" cy="1600200"/>
          </a:xfrm>
        </p:grpSpPr>
        <p:sp>
          <p:nvSpPr>
            <p:cNvPr id="174" name=""/>
            <p:cNvSpPr/>
            <p:nvPr/>
          </p:nvSpPr>
          <p:spPr>
            <a:xfrm>
              <a:off x="304920" y="198108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rgin indicator b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480" y="2362320"/>
              <a:ext cx="9907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4360" y="4876920"/>
            <a:ext cx="776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in indicator bar is the gray bar left of the cod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debugger pauses execution at a breakpoint, the application is said to be in break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66880" y="3452760"/>
            <a:ext cx="5610240" cy="819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840" y="1447920"/>
            <a:ext cx="423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run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03280" y="3614760"/>
            <a:ext cx="6335640" cy="495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13280" y="1447920"/>
            <a:ext cx="49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 bar of the IDE display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break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733920" y="2666880"/>
            <a:ext cx="2361960" cy="990720"/>
            <a:chOff x="3733920" y="2666880"/>
            <a:chExt cx="2361960" cy="990720"/>
          </a:xfrm>
        </p:grpSpPr>
        <p:sp>
          <p:nvSpPr>
            <p:cNvPr id="184" name=""/>
            <p:cNvSpPr/>
            <p:nvPr/>
          </p:nvSpPr>
          <p:spPr>
            <a:xfrm>
              <a:off x="3733920" y="2666880"/>
              <a:ext cx="2361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itle bar display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[break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339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9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6120" y="2743200"/>
            <a:ext cx="6249960" cy="1476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11120" y="1447920"/>
            <a:ext cx="64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execution suspended at the first break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7200" y="1981080"/>
            <a:ext cx="1371600" cy="1600200"/>
            <a:chOff x="457200" y="1981080"/>
            <a:chExt cx="1371600" cy="1600200"/>
          </a:xfrm>
        </p:grpSpPr>
        <p:sp>
          <p:nvSpPr>
            <p:cNvPr id="190" name=""/>
            <p:cNvSpPr/>
            <p:nvPr/>
          </p:nvSpPr>
          <p:spPr>
            <a:xfrm>
              <a:off x="457200" y="198108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llow arr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4400" y="236196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419720" y="3733920"/>
            <a:ext cx="3200400" cy="1328040"/>
            <a:chOff x="4419720" y="3733920"/>
            <a:chExt cx="3200400" cy="1328040"/>
          </a:xfrm>
        </p:grpSpPr>
        <p:sp>
          <p:nvSpPr>
            <p:cNvPr id="193" name=""/>
            <p:cNvSpPr/>
            <p:nvPr/>
          </p:nvSpPr>
          <p:spPr>
            <a:xfrm>
              <a:off x="5257800" y="472464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xt executable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4419720" y="3733920"/>
              <a:ext cx="1295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yellow arrow points to the line containing the next statement to exec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3" dur="1" fill="hold"/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55840" y="3033720"/>
            <a:ext cx="6230880" cy="16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08600" y="1447920"/>
            <a:ext cx="796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a variable value by placing the mouse pointer over a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648320" y="4343040"/>
            <a:ext cx="2514600" cy="1190520"/>
            <a:chOff x="4648320" y="4343040"/>
            <a:chExt cx="2514600" cy="1190520"/>
          </a:xfrm>
        </p:grpSpPr>
        <p:sp>
          <p:nvSpPr>
            <p:cNvPr id="200" name=""/>
            <p:cNvSpPr/>
            <p:nvPr/>
          </p:nvSpPr>
          <p:spPr>
            <a:xfrm>
              <a:off x="4648320" y="49528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uick Info box display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’s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95880" y="434304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2" dur="1" fill="hold"/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84280" y="3133800"/>
            <a:ext cx="6174000" cy="1457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12560" y="1447920"/>
            <a:ext cx="75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a breakpoint at line 31 prevents the application from ex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mediately after displaying its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ventor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66880" y="304812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10400" y="1447920"/>
            <a:ext cx="31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are no more breakpoints, application will execute to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84280" y="2590920"/>
            <a:ext cx="6174000" cy="1457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10040" y="1447920"/>
            <a:ext cx="335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bled break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38080" y="1971720"/>
            <a:ext cx="1905120" cy="1066320"/>
            <a:chOff x="838080" y="1971720"/>
            <a:chExt cx="1905120" cy="1066320"/>
          </a:xfrm>
        </p:grpSpPr>
        <p:sp>
          <p:nvSpPr>
            <p:cNvPr id="213" name=""/>
            <p:cNvSpPr/>
            <p:nvPr/>
          </p:nvSpPr>
          <p:spPr>
            <a:xfrm>
              <a:off x="838080" y="19717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abled break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1600" y="2268000"/>
              <a:ext cx="228600" cy="7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84360" y="4800600"/>
            <a:ext cx="776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bling a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-click the line of code and 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ab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1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ing a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he maroon circle in the margin indicator bar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ght-click the line of code and selec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move Break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Web Resourc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cplusplu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cppreferenc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cpp-hom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cprogramming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research.att.com/~bs/C++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msdn.microsoft.com/visua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ventor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33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2200" y="1447920"/>
            <a:ext cx="54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with quantities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ventor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480" y="1447920"/>
            <a:ext cx="57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the total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90720" y="4190760"/>
            <a:ext cx="3047760" cy="1404360"/>
            <a:chOff x="990720" y="4190760"/>
            <a:chExt cx="3047760" cy="1404360"/>
          </a:xfrm>
        </p:grpSpPr>
        <p:sp>
          <p:nvSpPr>
            <p:cNvPr id="56" name=""/>
            <p:cNvSpPr/>
            <p:nvPr/>
          </p:nvSpPr>
          <p:spPr>
            <a:xfrm>
              <a:off x="990720" y="5257800"/>
              <a:ext cx="1896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ult of calc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209680" y="4190760"/>
              <a:ext cx="1828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Variabl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 of computer’s memory that hold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a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a variabl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specify an optional initializatio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 valid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tain letters, digits and underscores (Number_5 is val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gin with a digit (“4thVariable” is inval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the same as a C++ reserved keyword (“true” is inval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rs are case sensitive (“A” and “a” are differ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Variabl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230880" cy="1990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1120" y="1461960"/>
            <a:ext cx="49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80880" y="3428640"/>
            <a:ext cx="1905120" cy="1404360"/>
            <a:chOff x="380880" y="3428640"/>
            <a:chExt cx="1905120" cy="1404360"/>
          </a:xfrm>
        </p:grpSpPr>
        <p:sp>
          <p:nvSpPr>
            <p:cNvPr id="64" name=""/>
            <p:cNvSpPr/>
            <p:nvPr/>
          </p:nvSpPr>
          <p:spPr>
            <a:xfrm>
              <a:off x="380880" y="44956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riable defini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143000" y="3428640"/>
              <a:ext cx="11430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whole numbe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Variabl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erforming Stream Input Us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i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extraction operat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stream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both together to retrieve input from the key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“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puts a value in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4:19Z</dcterms:created>
  <dc:creator>Jeffrey Peng</dc:creator>
  <dc:description/>
  <dc:language>en-US</dc:language>
  <cp:lastModifiedBy>Pearson Education</cp:lastModifiedBy>
  <dcterms:modified xsi:type="dcterms:W3CDTF">2004-10-11T14:11:28Z</dcterms:modified>
  <cp:revision>150</cp:revision>
  <dc:subject/>
  <dc:title>Slide 1</dc:title>
</cp:coreProperties>
</file>